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6B7-CCB3-4582-B2F1-447E272D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CE0-0E66-48C9-AE18-C94A8803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05B-9666-47E0-8D40-B35FBBF8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F6E-71C2-4F9C-9033-C0C580DF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398-8045-4FCF-9472-B41FC17C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6B7-B298-4F6E-8CCA-AC7A56D2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788-8F8C-4CC9-B4D4-2C33C9FF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46F-FD3C-4B7F-8193-0F1427ED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F94-1524-482C-8DD9-78A15032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DDB-9393-4EDF-950D-13A270A3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FD4-9028-4F94-A822-73C44A28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B84-2729-47C7-AAF8-9A9F5AC6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E441-F7AF-4895-910F-FA1AAF071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green247.com/agreen/jpg/penicillin.jpg&amp;imgrefurl=http://blogs.houstonpress.com/houstoned/2006/11/peter_gallagher_and_his_eyebro.php&amp;h=403&amp;w=400&amp;sz=29&amp;hl=en&amp;start=29&amp;sig2=VMR-YKZpUkFMxYWbkZhZmw&amp;tbnid=HyDIoV55BKuOUM:&amp;tbnh=124&amp;tbnw=123&amp;ei=ua_qRvDOOIfIgAOq8dTDBQ&amp;prev=/images%3Fq%3DFleming%2Band%2BPenicillin%26start%3D20%26gbv%3D2%26ndsp%3D20%26svnum%3D10%26hl%3Den%26sa%3DN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ДЕРНА МЕДИЦ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. Драгана Игњатови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ћ Рист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сихијат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Систематски метод 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пецијализације, усаврашавање у посебним обла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Шира примена експеримента, статистичких метода и сли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азвој великих бол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Раније су у болницам били само сиромашни, а богати су ексклузивно лечени у кућ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Увођењем лабораторијске, ултразвучне, рентгенске, компјутеризоване дијагностике и развојем хирургије, све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ије довољна инспекција, аукултација, перкусија и палпација- некад је лекар и знања и прибор носио у својој тор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Данас су за то потребне бројне собе и велике згр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Социјалне проме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ндсутријализација, аграрне земље постају индустријске, расту град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сте укупна број становника, продужава се животни век, мења се старосна структура становниш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води се социјално и здравствено осигу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ези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Модерно доба се може звати добом социјалне револуције, природних наука и технологије, а у медицини раздобљем увођења и напретка нових технологија, специјализације и социјализације медиц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Данас, медицине је раскрсница на којој се укрштају чиста наука, хуманизам, економија и социолог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Све до Virhofa и формирања прве лаборaторије у Пруској, дијагноза се постављалa по болји и облoжености језика, по сувоћи коже, по мирису око бoлесник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Лекари су се обавијали тајaнственошћу и она их је делила од пацијенатa. Овакaва улога се настaвљалa и одржавалa од племенског врача који је лечио својом мистичношћу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ве до краја XIX века, медицина је била немоћна пред током тешких болести које су безусловно водиле у смр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Лекар је могао да помогне замореном срцу, да смири кашаљ, ослакша искашлјавањ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 лекари су сами били свесни неефикасности у лечењу и своје немоћ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Тек између 1830. и 1935. године, медицина је успела да обузда неке тешке болести (дифтерија, дијаб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сле открића SULFONAMIDA (1935) настаје период открића нових антибиотика и успеси у борби против бол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Некад и с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екадашња медицина је била неефикасна и јефтина. Није била никаква ставка у буџету држа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екада се лекови нису користили, већ се лечило пуштањем крви болесника, коришћењем средстава за чишћење организма), тако да је лечење било беспл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Лекови су били углавном биљног порекла (чајеви, напици, одварц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175280" cy="34257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4000" spc="-1" strike="noStrike">
                <a:solidFill>
                  <a:srgbClr val="000000"/>
                </a:solidFill>
                <a:latin typeface="Arial"/>
              </a:rPr>
              <a:t>Ултразвук 20 недеља старог фет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Некад и с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авремени лекови (антибиотици, хормони) су далеко скупљ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авремени дијагностички апарати, хируршке методе, нови лекови поскупљују рад у здрав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Модерна медиц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ериод прве половине XIX века до да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литички либерали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апредак физике, хемије, биоло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апредак у савременим технологиј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апредак у медиц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Велика достигнућа у области АНАТОМ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rges Cuvier, француски природњак, је 1801.г.основао компаративну анатом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ihelm His, старији, професор у Базелу и Лајпцигу, је проучавао грaђу неrвног системa, пoстaнaк кrвi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матрaјu гa нaјвећим eмбриологoм XIX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ihlelm His, млађи је 1839.г.открио Хисов сн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millo Golgi, професор у Павији, је 1880.г.открио мултиполарне ганглијске ћелије (Goldžijeve ćel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ul Fleshing je 1876.г.открио пирамидалне путе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udolof Virchow je оснивач патохистологије и целуларне теорије бол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Болест је болесна ћелија”- закочио развој медиц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хигијене и социјалне медицине- само благостање, просвећива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и политичке слободе могу довести до побољшања здравствених при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rancois Magendie, творац експерименталне физиологије, 1822.г. је објавио откриће да су предњи спинални коренови моторни, а задњи- сензор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До открића је истовремено дошао и Шкoнтланђанин Charles Bell, па се и зо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Бел-Мажендијeв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Šarl Riše je 1913.г.открио АНАФИЛАКСИЈУ и добио Нобелову наг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пак, први опис алергијске преосетљивости је описао Хипократ- копривњача на извесне врсте хране, кијавица на мирис ружиног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van Perovič Pavlov je 1904.г.за откриће условних рефлекса добио Нобелову наг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Микробиологија и имун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Luis Pasteur, француски хемичар, направио више епохалних открића у области бактериологије, отворио потпуно ново раздобље у развоју медиц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857.г.доказао да је микроорганизам узрок кишељења вина и извршио уништавање тог микроорганизма кувањем (на температури до 5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Ц- ПАСТЕРИЗАЦИЈА). На тај начин спасио је индустрију вина у Француск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Разрешио и болест свилених б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Главна заслуга Pastera je откриће вакцине против беснила која је први пут примењена на дечаку Josipu Meisteru, 6.јула 1885.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 Елз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877.г.публиковао радове о истраживању антра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Откриће стрептокока и стафилокока (1880) као узрочника гнојења рaнa, пуерперaлне сепсе и шaрлaх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obert K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ober Koch, срески лекар у Немачкој, који је за рођендан од супруге добио микроскоп- почео проучавање чудесног, невидљивог света микроорганиз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Култивисање бактерија на вештачкој подлози, метод размаза на стаклу и бојење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Открио бацил туберкулозе (1882), споре анатракса (1876), вибрион колере (188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Добитник је Нобелове награде 1905.год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lexandar Fle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Енглески бактериолог, гајећи бактерије 1928.г.у лабораторији у болници “Света Марија” у Лондону, открио културу гљивица усред културе бактерија и око ње створен прстен без бак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Правилно протумачио оно што је видео и објавио резултате 1929.г. Они нису били запаж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Тек 1940.г.професори са Oxforda, Florey i Chain су рективирали ово значајно откриће и изоловали чист пенiцiлiн. Заједно са Flemingom добили су Нобелову награду 1945.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Alexander Fleming"/>
          <p:cNvPicPr/>
          <p:nvPr/>
        </p:nvPicPr>
        <p:blipFill>
          <a:blip r:embed="rId3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Модерна медиц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Бернард: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ескрајно дуго детињство, које је трајало неколико хиљада година...и за мање од 100 година из детињства прешла у своје зрело доба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lbert Neisser je 1879.г.открио узрочник гонoре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Karl Eberth je 1880.г.открио узрочник леп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dwin Klebs и Fiedrich Lofler су 1883/1884.г.открили узрочник дифте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onald Ros je 1898.г.доказао да се маларија преноси преко малaричног комaр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иничка и практична медиц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есумљиво, достигле неслућене вис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тицај Шопенхауреове песимистичке филозофије на схватање да се пацијенту не може помоћи имао је далекосежне послед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коро да су лекари радили на клиникама само да би на обдукцијама видели шта још не знај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патолошке анатомије и физиологије, а једне стране и поражавајући резултати на обдукцијама, довели су до у центар пажње настојање лекара да за живота болесника сазнају што више о променама у болести и тако усаврше дијагностику и лечењ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Ignatz Phillip Semmel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847.г.растумачио узрок пуерпералне сеп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Рођен је у Пешти, са 23 године, 1846.г.је постао асистент на акушерској клиници у Бечу. У то време, у Бечу су биле две акушерске клинике- за лекаре и бабице. Смртност у клиници за лекаре је била 10%, а оној д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гој- 4%. Професори су имали своје објашњенје за 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emmel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а једној обдукцији породиље која је умрла од пуерпералне сепсе, Semelvajsov пријатељ се посекао, разболео и умро. На његовој обдукцији, приметио је исте промене каo и код порoдиље. Заклјучио је трулеж из лешева можe прећи у рану здравог човека и заразити 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Како хлорални креч уништавa задaх трулежи, одредио је да се руке обавезно перу у хлораном кречу пре преглeда и забранио да студенти долазе на акушерску клинику непосредно после обдук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emmel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Ово је публиковао Ferdinand von Hebra 1847.g. Семелвајс је свој ра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бразложио 15.маја 1850.г. а у октобру исте године, избачен је са акушерске клиник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аставио је да се бори за прихватање својих достигнућа, али је 1865.г.смештен у лудницу где 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те године ум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Сличну судбину доживео је 5 година пре њега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мериканац Holmes (“Прилепчивост бабиње грознице”)- изруган и заборављ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Henry Du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сле битке код Солферина, 1862. развио идеју о стварању Црвеног кр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Добитник је Нобелове награде, живео и умро у сиротиш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Joseph L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867.г.открива антисеп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чење Пастера да актери труљења улазе из ваздуха у рану током и после операциј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нструменте почео да ставља у карбони раствор, а ране превијао завојима натопљеним у карбол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убликовао 1867.г. и брзо је био прихваћен у св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ХИРУР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Хирургија доживљава нарочит напредак у другој половини XIX века, са проналаском анестезије и антисеп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илa се aбдоминaлна хирургија коју је посебно унапредио Theodor Billr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чињу да се развијају и друге гране хирургије- ортопедија, уроло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ХИРУР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Први хирург који је оперисао у анестезији етром 16.10.1846.г. био је John Collin Warren. Томе је претходио врло дуг и тежак пут, са жртв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ickmanov предлог да азотоксидул примени на људима одбијен од стране француске академије као бесмислен, a Hickmen je од туге ум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 10 година после, француски хирург Velpaou је то назвао бесмислиц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азвој природних 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chael Faraday је 1831.г. открио индукциону струју, 1834.г. утврдио законе електрицитета и поставио теорију ј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Julius Robert Mayer- зак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о неуништивости материје, али је откриће признато другом научнику (Jo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arles Darvin je 1859.г.издао фундаментално дело о пореклу вр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Зубар Horace Wells je ту методу први пут применио у Бостону 1841.г. Своје повољно сазнање је публиковао, али је доживео катастрофалан неусп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пак, хирург Long je први извршио операцију у наркози. Džekson je вршио огледе са етром и препоручио га за примену у зубарству бостонскoм зубару, Morto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orton je извршио прву службену демонстрацију анес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је етром, a Warren je био први хирург који је оперисао у нарк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Висока цена открић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els je извршио самоубиство што су му други отели славу, Džekosn 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лудео, Morton 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мро у б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сти онај француски хирург Velpo je сада прихватио анестезиј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ако је хлороформ открио 1836.г. Bell у Лондону, рачуна се да је Америк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Simpson први употребио хлороформ за анестезиј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848.г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где у свету није било прихватљиво то што се мушкарац бави гинекологиј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Оротпед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Гипсани завиј се уводи 1854.г.након што га је открио Anthony Mathije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акон тога, убрзано се развија ортопедија, а у XX веку се трaумaтологијa oдвајa кaо посебна субдисциплин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Ур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роналсаком цистоскопа, 1877.г. од стране немачког лекара Max Nitzea, нагло се развија урологиј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ustav Simon 1869.г.први пут екстирпира бубр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nrico Bottoni 1890.г.први пут оперише увећану проста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Офталмологија, ОР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imli, гетингенски професор, 1801.г.први уводи назив офталмолог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eber и Rinne уводе тестове за испитивање слуха, а 1856.г. Anton Troeltsch проналази отоскo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Неур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Као медицинска дисциплина, настаје одвајањем од интерне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rb- 1868.г.електрореакције у неуролошку дијагност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ans Berger je 1929.г.први увео електроенцeфалограф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Психијат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mil Krepelin je 1901.г.направио прву модерну класификацију менталних болести- demencija precox и манијакално депресивна псих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ugen Bleuler je 1911.г.назаво сцхизофренију тим име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Психијат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Wagner-Jauregg je 1918.г.увео маларију у терапију прогресивне парали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duna 1934.г.је почео лечење схизофреније кардиазолским шок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сте годинe, Sokel, уводи лечење инсулинским 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к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ini и Cerleti, 1938.г.уводе електрошокове у терапију у психијатр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893.г.почиње да објављ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е своје радове Sigmund Frojd- револуција у науц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Развој терапије у модерно до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 XX веку- хипнотици, кардијаци, новокаин, живини диуретици, хормонска терапија (инсулин) и бројни витам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алицилна киселина и серум против дифте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Данас- ГЕНЕТИКА, ГЕНЕТИКА, ГЕНЕТИК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вој природних 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regor Mendel, опат из Barna, je 1865.г.утврдио законе наслеђивањ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mitrij Ivanovič Mendeljejev je 1869.г.открио периодични систем хемијских елеме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llenges for the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000000"/>
                </a:solidFill>
                <a:latin typeface="Arial"/>
              </a:rPr>
              <a:t>Изазови за будућ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sity/Diabetes Melli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riatric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/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zheimer’s 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/Medic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than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Будућност медиц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5000" spc="-1" strike="noStrike">
                <a:solidFill>
                  <a:srgbClr val="000000"/>
                </a:solidFill>
                <a:latin typeface="Arial"/>
              </a:rPr>
              <a:t>Баланс измећу медицине и науке/технологије који ће се постићи ако будемо користили машту и имали </a:t>
            </a:r>
            <a:r>
              <a:rPr b="0" i="1" lang="sr-Latn-RS" sz="5000" spc="-1" strike="noStrike">
                <a:solidFill>
                  <a:srgbClr val="000000"/>
                </a:solidFill>
                <a:latin typeface="Arial"/>
              </a:rPr>
              <a:t>мало </a:t>
            </a:r>
            <a:r>
              <a:rPr b="0" lang="sr-Latn-RS" sz="5000" spc="-1" strike="noStrike">
                <a:solidFill>
                  <a:srgbClr val="000000"/>
                </a:solidFill>
                <a:latin typeface="Arial"/>
              </a:rPr>
              <a:t>среће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Green%20Sand_800x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itan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749858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willgadd"/>
          <p:cNvPicPr/>
          <p:nvPr/>
        </p:nvPicPr>
        <p:blipFill>
          <a:blip r:embed="rId1"/>
          <a:stretch/>
        </p:blipFill>
        <p:spPr>
          <a:xfrm>
            <a:off x="0" y="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азвој медиц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После француске буржоаске револуције, од пробраног наставног особља укинутих универзитетских установа, основана су три нова медицинска факултета- Париз, Монпеље, Стразб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ајвећа новост је оснивање катедри- интернистичке и хируршке, затим за акушерство, судску медицину и историју медиц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азвој медиц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туденти су почели да уче медицину на пацијентима, а не само по књигама у библиотек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Оснивале су се нове, велике болнице и кли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Лекари мењају дотадашњи начин ра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Од посматрања болесника, прелазе на испитивање боле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физикалних метода прегл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лабораторијских испитивања, хистолошких, физиолошких, фармаколош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модер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Најбитиније карактеристике модерне медиц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истематски метод 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великих бол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оцијалне пр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6:52:41Z</dcterms:created>
  <dc:creator>MEDF</dc:creator>
  <dc:description/>
  <dc:language>en-US</dc:language>
  <cp:lastModifiedBy>MEDF</cp:lastModifiedBy>
  <dcterms:modified xsi:type="dcterms:W3CDTF">2011-03-16T20:14:08Z</dcterms:modified>
  <cp:revision>37</cp:revision>
  <dc:subject/>
  <dc:title>MODERNA MEDICINA</dc:title>
</cp:coreProperties>
</file>